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FCF-72DC-461E-9E1D-1DDCE885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EEC-261C-4FB7-828A-D807BEF5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F8FA4-E821-48BF-ACB9-83003911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AAA15-501D-4110-BBE1-3BC3394C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87A1F-C372-4E54-9969-C65BF0F7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EC616-D5CB-496E-BD89-B8028D3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C093A-9BC0-4B56-9D9B-03F6890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FBB58-2405-44C6-B7E9-7210EFE8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44C39-47C9-4B1D-961B-4C5ED5EA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37BAE-95F7-4EB0-B6A0-C6927718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5CB9A-4D63-40B8-A2C3-2A24B836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FDE66-BD6C-40C2-B71C-CC66CA37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BA1-8BA2-488A-83F4-545AA51B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0BBF2-6A50-48DD-8F35-73CC037E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C0F85-4C5C-4794-A746-8E35CAF0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5EA6D-41F8-4244-9A1B-602B4CB1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F0311-4364-450C-BB9B-3002CB8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96801-7A91-4BF9-8D97-37157DD1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53401-E8DC-4DB7-AEC8-AFF26602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42AD6-2747-41DF-92D3-A1FAA3A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914AE-1FBD-4CA9-8F54-01846E3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BAF12-2BD4-413C-8625-F31FA2EE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5F138-562B-49C5-B560-635A8668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21B-A551-47E3-AEDF-49AA689D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6E00F-E861-4A56-85F5-09E01B09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447AF-CFE0-4674-94F5-11D7592F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1D000-EF05-49D3-BDBC-C557E39C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B2446-886D-4591-BF93-E6A01D54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D8134-B796-4BC3-AD8F-818247F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90A44-DD7B-4D33-B4E8-AC9D2B4C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2E971-25AD-4245-96A5-1CD8DA0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96212-9BCF-4AA4-9C59-5F984346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076CD-7A5A-414B-8B94-38099088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4F90C-3EFF-4527-B0F2-2CD0CB8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43A0-A9AF-4F26-8D90-FB0D72F8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0D8FD-4DDD-4C02-80CE-EC82C6F5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14B08-1C21-468B-99B0-1D6A0D9C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A440C-1900-427C-9723-365BA49A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A030A-9CF3-4426-9A66-D73A05A8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11616-9259-4613-988B-B25CB6A0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6DBC9-CA5A-471B-94E3-307BA527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150EF-E400-4C9C-A12A-C6BFB29A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83CE7-6A2C-40BF-BF7A-4AB52211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70214-FD51-489D-8BC1-6083B174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F6003-39F7-427B-B444-A513FAFB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379-C3C1-458C-87CD-25D107AE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211D2-FB39-4957-AD53-26BFC83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8ABA6-5316-4427-BA7D-A4A224BC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2B320-49B2-4E17-9819-50478521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55594-5D33-4B9A-8B21-B178FB7C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A8BEA-2D0C-424E-B478-3FC36B03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8468F-79E0-4973-8C15-9D0ABBE9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26719-E5E3-4B1F-A3FB-4A12375C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30505-A413-4493-8A6B-E19AB63F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ADD65-C053-41EE-9884-275D4C83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B2350-E7E8-4DAD-BBCF-F7992175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E248-A71E-4AB1-A187-114F48E3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5D4AE-CE2E-4B34-89FE-DF1F63CB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BB427-2C5D-424F-8640-31B59AD3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C9525-C4D4-432B-9316-CB27E354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45078-5007-434B-9758-0181F47D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CF9D9-8C7B-47D8-9665-BB5A537B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51A9E-8E08-4257-ABAB-928F5F6B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8930D-F8F1-4595-9AAB-26C18196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E192D-E406-4ECF-A2D0-D24923D0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EB4BD-EBF9-4D66-8D59-CCA34601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DC60C-0804-4076-935A-8778E3AA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99AA-C490-4D96-B32C-05BC5025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7200F-3227-4E50-A5FA-A948635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9F9AD-2395-4C32-A0FB-FBC8FCE8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D1354-82A4-413E-B0A2-14E2BC81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34D9F-1AC0-414D-83A3-FDABBC2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20A45-FC9C-48C4-A509-7B1211B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47108-BF98-49EB-AEAC-7940098F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FCE94-E44F-495C-B044-BCA6473E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8EA52-C2DF-48A3-A268-2E8FCB2B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9E589-8F36-4444-BA5C-9FAE05E2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6491D7-8120-4FB8-B4C3-A060430C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67F7-7A42-4694-83BE-8B73EDD4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89129-AD1C-4191-9AA1-84F080E6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97D54-6E30-4BB2-9B37-2346E541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CA97C-9427-4558-9158-62126B3B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B0394-3783-4E96-8696-D0F6BCEB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43579-4055-4F05-9521-6022F92E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C762B-948F-4F83-A0E9-02A0A258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74CD4-2B9D-444F-BA52-9C58C00D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7E0E6-30B7-4E53-A86B-BFA592C9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7DB97-D475-40E5-8920-FC090A85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A11B8-4BB7-47F8-A8E9-3DB5ACE4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D850-111D-4D6C-A858-28FD1068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363E6-1E30-4E07-A5D7-64A51C33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DBC20-2DFB-400D-BFC2-1770A786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E07B3-8846-4C22-9741-52AA4FC8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88A63-456A-41C1-B062-3BF031C1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1C51E-C5A4-4C25-8C82-C2EACF18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DBA2F-5364-4A4A-A906-5096D8C9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4B4A1-C6A9-49BE-8A87-4622300F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71412-5214-445A-9D20-2C4A9FE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958AF-9431-4516-938A-7189438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519FD-A747-4F20-9025-924CBC1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281C-A325-449A-B173-A4270630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9B3E9-BEE7-4992-9F89-793264CA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9D759-AC06-4DA7-8B49-FBA97044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A5EF5-16CA-415B-8E33-E5781F44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B532E-6E31-4586-9758-EF311A31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24BF5-21D7-4413-898C-13CA554C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3A03FA-63E3-414A-A78D-44441210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46E9A-2648-4BB6-B125-0ADB7E27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ED413-E08E-47C7-9348-393E8DC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5B5BC9-6F9C-4653-8BDD-D0894A4B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E756CC-5BF9-483F-B3B5-8ACBD0AC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EAB-0401-448A-8903-99462184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4261-1FC8-490A-9095-EDAE72D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62FEB7-1905-467F-ADE7-D600738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2CE5E2-7C2F-4BE4-A4FD-A4933EBE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90699-7B4B-4BEB-BBEB-3955E707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4B040-F25D-4C0A-909D-A5B11233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787988-21F2-412E-B482-7D98D414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4AEBE-C955-4633-9BE5-B5B2CE7B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26DC2-6100-4504-8E55-B1DF5FB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6470F-4170-4ED8-BBFC-EFF43637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B0284-240B-4A54-A686-4D0FA266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439A3-E464-4467-BFDF-605DABA6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C6B1-B408-4733-9E00-2F9D6CE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66D2F-0ABE-4B6F-94D3-B5EE76BD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DA212-1640-4509-986F-E4F512B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C173A-8832-4B37-ADB9-0B41D792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98574-4827-4590-A183-AD85D227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F4A20-C0CD-4D60-A34F-A3CFD26C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E6F88-52FC-48CD-A563-637CF219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CB6B4-EA80-498A-949A-42802535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EC825-CB07-458E-BCD0-7991E01D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2A06B-CB92-4707-8B5C-36CB5389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1DAD9-AE97-491D-89AF-9970EE9B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26D7-FBD5-45E0-91D1-78F6C557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6CF65-C6FB-4133-AB14-D5C416B5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69CB6-DCDD-4E45-87F2-D3FA2598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7BF91-81A1-4B42-9DA7-07E780B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82F57-84EC-41B3-B709-E3788C2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70570A-9B41-4BB4-8998-D53960D2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057DBA-F7B4-4A39-80B7-7599B979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49017-538F-48A8-A1F8-0D88C7E6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C6E1C-0108-47DF-874E-F16C53CD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986A0F-F22C-455F-AD80-5718062A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44775-C038-4743-BFDB-C305DBB7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25EA-E537-403B-824D-EC49D6CB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81F40-3B15-482A-B31A-1E92A823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986C7B-BBB8-4842-B947-72323C5F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3BBF1-79BC-4E94-8EF5-372C9ABA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82C342-4D73-4440-A511-02DB9256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63FF6-3EBC-4F4A-95B9-BFAA4E0F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3EFA4-924E-44D2-A8B9-C98C65D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7E83A9-EADA-4BB0-BE61-D485B4A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E9A01-B4DF-46DA-95A7-EB4FEBE6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FDF64C-B6BF-472A-A125-FF5E1E4F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368F5A-5A9A-4D5D-9BBE-819B6048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7747-1914-4221-9A96-B7148560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005F5-F977-4A9B-BFAD-CE15F50D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78F4BA-7842-4F65-9970-A7323BAD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8DCD1-B0E8-4CD7-99A0-9045E2B0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FA05EE-9937-4F13-9180-1EB90841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666CB-0EFC-489A-94DD-3F1756A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728C4F-1EA2-47FC-87AD-DBF0E14B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1EE48-1A73-424D-9198-F0E5C2AF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9E2381-A5B1-4552-9747-7CBC6B91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E202B-8F49-4EB4-9072-3C21C2B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70245-4B76-47F3-A070-1CD7A30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8309-DF3C-4CB7-9D8A-F1F7D3F1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AF624-4FDC-4DD5-A580-4FF02CF7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C5F1DE-DCFC-4169-82D3-ED23A00E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DE0D0-8F5F-4DE0-98BA-E054E77E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580CF3-64DC-4B21-BEEC-1ED76106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2E97C4-0BDF-4411-98E5-F84AB049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97F1A4-D949-41E5-97C8-66CD0B1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F929C5-27E4-4B6F-8EE3-7D08C708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693A4C-3916-4E1C-9AD5-08A48C88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151199-0B4B-4163-A0F5-4ED8CA6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ED1147-696C-4407-B90A-6373C04F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250D-BA44-4F27-BBBC-39016A46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B9AA9D-3772-4508-B12E-EEE0C51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7B4AC-BD5A-404A-8810-944F5972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395625-F480-4C1D-9E3B-C9692EE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D832EC-6468-4B7F-8018-CC5574D1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5FD22-E6EA-4CA3-BE5A-F52C362A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57F360-885B-49B3-AAF4-4C709B10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1D55C6-9CC7-4558-A008-C2073A57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E8AC0B-F570-4E4C-96B2-9427663D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65E6BB-2A45-4A17-AD40-5820750C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A7AA3-6DEB-4DF6-BD33-6693FA46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63A0-4273-4C13-8C10-AFDF7A3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08B5AC-A1FB-4197-845A-BAC1C1A5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A001AC-D6D1-42A7-8E7C-AABA345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6563CE-C526-4D1C-8012-0CEE0EC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5BB333-D0EC-4B6B-8FD4-EC4C587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E583CA-0118-42B8-9C0D-1923AEC7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0C4281-2A6B-45B5-8E2B-6971B3DE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54BC0D-7C24-4075-A9E2-1B9CCE02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E4F5-FECF-451E-A950-E792939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2FD7-8C4A-42E7-8FA8-26D1D27F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E44-AD0B-4D53-AB6D-3C945F34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2C85-CB69-4B46-A141-1F1F01C2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AD75-8C84-42B6-A2FB-919A0E6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8AD3-3556-4947-A458-CED23FC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F383-5E41-4AC0-B7D0-988A48A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0D04-48E9-4239-821E-2AE00CA1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634E-9C71-43B3-BB03-A6B4EBCD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8CF4-8D7D-454D-BBCF-DD9E1BEF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473A-DA18-492A-8209-B63B23F6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E3A5-5B3C-4A8A-985B-D3926B87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24F7-B63C-4FCA-9225-43E78626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527-3F77-4AC0-8BD1-B7E30DE4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9624-A4FC-4651-9E94-511E6B6E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E0223-C5E8-4BEF-B257-F4D484F7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B5DA-D3C8-44B4-BB89-EAF77B9A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04C1-832F-4B7C-8BD5-D17776F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901B-BBDD-4BB2-B5E6-F56729F9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C8A2-85A2-4A62-86E8-30E0817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824F-048B-4B56-A08D-F8C381D5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5AB2-D031-4E3D-BD5A-EAB4C5F8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9928-9F3F-4782-9C99-7DA34DFF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1CBA0-55B4-452C-8D8A-37831E7F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A28-09BA-4A57-882A-62F51B4E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EDF59-C51F-479D-8B3B-4F07BCFD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25E0-3ACE-410F-9662-E03A7224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89CE8-420E-4A70-B6BD-304F6056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4EF21-4329-494C-8C9C-637198D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8A4DC-0BCD-451F-8ABD-6FACDF75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C9F35-46CF-4432-AA84-29DB5C2F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35D3-41FF-4C14-B07F-DE7DD16B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9A72A-8ED6-4BD2-91E0-2F6A0ADA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90E6C-2451-4444-9A03-9F5C83F5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9273-FFC4-4BD6-AAAF-7B6945D3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A3C-CD06-41FA-98BD-5A4BF67E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7A701-52DB-42D5-B0BE-B84E7FDD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48D44-D386-4183-BC27-F7E8D509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4588-0949-46D7-8749-A0455187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0EE7F-215A-4CC4-A9DC-B38CCB27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F6A3-349F-4DD0-A5C4-871D14CA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2583D-20D9-4A44-A18B-3458A324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7D6EB-7A6A-40FD-BD13-D84A8263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9DB8-3CC3-4EF7-865C-ED4653E5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5794-E83E-42B2-B40E-4163EDA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6491-5222-4B6F-BAAB-A30165D1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265-37C9-4BBB-A38C-24079269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20A48-C968-4104-9714-62F49BB9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EB80F-5A63-4464-9CCB-A1595B4D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2974-D520-4C7B-A672-11E3AA28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B1B0E-FEC1-4E1E-B710-B490A6EC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159E2-6F0C-46CD-8FE6-6A6624B5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BC296-AA01-4FA4-BC3D-4AC7EEB3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A375-868E-4E0D-B90C-420B51E7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A02C6-D0C9-4878-926A-18152ACD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1FF6-5405-4C94-82CC-120C33FF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71267-3C7C-4143-BE22-953A260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C23-45A1-4F61-B125-2AE9507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2645-93F5-44D5-B8DE-4DB0365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13EF6-95C0-4FF9-BEC8-67FDDAF3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FD6C-314B-4CDE-BC71-71209B3B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D6BEC-3734-4932-9B8A-AA657C18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94DE9-3F4D-4D3C-B356-F65CB160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D810D-47E5-421A-A577-1D7F3F28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1A944-45F5-43A3-B5B9-1A019AEE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D4789-26AE-48A4-80D1-E78895D0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FD80C-099B-4218-8469-EACF33AC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823F0-766D-4A9B-A8B4-C7500C29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98A-59FE-4B3B-82D1-424AAB2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7AC14-E2D0-4752-8DEA-630A1BC5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29A3A-75E8-42CF-B9AB-765109DA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28C8E-6C15-4C52-8F95-41F05816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8158-B577-47F8-834C-E7751E03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1E256-7D20-4D37-A19B-F700C766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2408-973D-45D9-AFBD-BC95E39C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DDD9B-FDE4-419C-850D-F25DB934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49A9C-73F3-4DE0-8940-B8D068E2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1EBDD-C0CA-484B-85DA-6C235201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76A36-3180-40B1-AC73-E3652F68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C7FB-2E51-4253-9216-74128F4145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68CC-5519-4616-BC1B-15D4F5D77F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29E-591E-4DFA-8920-FEFABB7DEB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EEC3-619F-473B-9512-A5E062083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C375-8362-4DF1-A592-A7B8B7E64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6CD2-A825-43B7-BCDF-C8F127667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02B8-1300-4F30-8CF2-1A046E26F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3B9-369F-41D5-9BE9-DD50BCE1A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8960-6C93-4901-BF5E-F84F4A20EB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BBDA-1426-4F7C-AD8E-761C63B0FA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D4DD-7BAE-4B6D-A166-D726ADFC48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CED-9137-4BF4-94E4-30FC46C5F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B4A-9DEB-4703-8E18-F7FBE91FE0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B92F-96A6-4288-9E55-29D9D47249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9A72-0F57-4C35-9073-25B913B27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B18-5F77-4513-A154-B42D821B4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EDF5-8117-4D2A-B2F6-2901A1DD17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710-7F73-459A-AF46-36AD14D550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8BB0-7EFB-494C-A281-DD37C58D6D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FF7E-0D9E-4326-8BFA-1B15AE260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389C-8EA1-45B2-85C2-79F85D050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12DE-632F-49CC-89E2-9A822B3501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A847-A76E-4779-A5C8-4956662FF9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8334-1346-4DA3-9F31-D2B3D39A32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F073-2933-459F-833A-7ABA942AD8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2D80-BECF-4CE9-A51C-E8929E2DE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FD5E-5A9E-4003-93DD-8E012AEA7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6FEF-B4F9-4DA4-8C39-F7D3DA419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7434-E687-4B35-9ACB-C80F716EA8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735A-B012-4E58-B6AC-EE36C0B3B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B283-DCCE-4102-966F-4BD52FDBE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C595-E426-4D94-B2F9-D397D92BA3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905E-2349-4DA0-8962-042D2FBD40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DF4B-E612-434F-BC76-B424FACD78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30A3-7F47-45B1-8BC4-BDFD05458D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1165-A8F2-4342-914F-FABDEBD1FD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412D-FB60-4BA7-81D7-F4B26A540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9964-9072-4BF2-AC03-AF1D169BB7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8A36-55F5-4B8F-A046-371A85A176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9E8D-E8C4-44BE-81F2-8440FDDEA5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6AE0-A95B-48A6-9E30-8481B168F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E2AA-CB63-421E-8107-9FD5AA24C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24160" y="3014640"/>
            <a:ext cx="6295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55520" y="1058760"/>
            <a:ext cx="8832960" cy="18288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1271520" y="3220920"/>
            <a:ext cx="6858000" cy="2238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3492360" y="1498680"/>
            <a:ext cx="57492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492360" y="2060640"/>
            <a:ext cx="57492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6012000" y="15429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6012000" y="20178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8367840" y="15289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8661240" y="2060640"/>
            <a:ext cx="4399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3203640" y="38037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0"/>
          <a:stretch/>
        </p:blipFill>
        <p:spPr>
          <a:xfrm>
            <a:off x="3463920" y="4437000"/>
            <a:ext cx="74772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1"/>
          <a:stretch/>
        </p:blipFill>
        <p:spPr>
          <a:xfrm>
            <a:off x="6703920" y="3860640"/>
            <a:ext cx="74772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2"/>
          <a:stretch/>
        </p:blipFill>
        <p:spPr>
          <a:xfrm>
            <a:off x="5940360" y="4451400"/>
            <a:ext cx="747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4200" y="900000"/>
            <a:ext cx="8715600" cy="50580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851280" y="175752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356000" y="234936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012000" y="4149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716360" y="5373720"/>
            <a:ext cx="14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528480" y="2224080"/>
            <a:ext cx="8087040" cy="2409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4788000" y="407664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728640" y="885960"/>
            <a:ext cx="7686720" cy="56480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25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5435640" y="2565360"/>
            <a:ext cx="25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5580000" y="4724280"/>
            <a:ext cx="25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252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419040" y="415800"/>
            <a:ext cx="8305920" cy="63439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4643280" y="89388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4572000" y="206064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4716360" y="486900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4716360" y="544500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4844880" y="6035760"/>
            <a:ext cx="396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47600" y="1643040"/>
            <a:ext cx="8848800" cy="3571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826920" y="4292640"/>
            <a:ext cx="482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480960" y="882720"/>
            <a:ext cx="8182080" cy="5381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258920" y="4349880"/>
            <a:ext cx="712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258920" y="4941720"/>
            <a:ext cx="71294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258920" y="5516640"/>
            <a:ext cx="7129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47600" y="942840"/>
            <a:ext cx="8848800" cy="5467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55640" y="371628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684360" y="429264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71640" y="4883040"/>
            <a:ext cx="48243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00160" y="1023840"/>
            <a:ext cx="8743680" cy="48103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755640" y="371628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826920" y="4308480"/>
            <a:ext cx="432144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6:1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